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43287-ACBA-45A6-8652-4398A8D7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412FC-9FF6-4421-A389-8215815D8A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997B6-52E7-40AD-B3A8-DEDFCA4131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47C4A-7CC4-45C9-82F6-2A65A310FC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6AFA1-8E5B-4A45-96C2-249FDD573F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7D169-EE2E-45FB-A230-B3DFAED287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79177-3BAE-4F30-BBE6-722E90A6C3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95A6E-7F57-4E9C-A0F2-4693F42AE0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437CD-99E0-4E40-AD37-9799102D9B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73881-1A33-43AB-B8E1-43D5B17356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D889E-B507-4FDD-9694-3425BD50B2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09A-1497-4978-B39F-DB51B158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F25-5C0B-433B-9DDE-9E5EFF8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43D-BF77-4ACA-8A9F-B76F5BDB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9DE-A8AB-4A73-BEFF-241E806C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74F-2E26-4E47-B5E8-5C0E0699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133-302D-4E97-8788-905751D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706-8CE2-4C66-BE7B-E37EB28C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074-9B81-4B55-9369-09836FB2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079-1F47-426B-B6AF-FFB2478E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00B-6A4D-4438-9B9B-C862F5AC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DAB-53DC-48F7-A5D0-61117F27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17F-C7F5-4F85-8ABA-97A5BCC2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C3AF7-90C4-4E9B-94C6-D613D5951E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500120" y="1655640"/>
            <a:ext cx="9717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: Rounded Corners 9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1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39800" y="2903400"/>
            <a:ext cx="97138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UVOD U DEČJU</a:t>
            </a:r>
            <a:br>
              <a:rPr sz="4800"/>
            </a:b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STOMATOLOGI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683720" y="2728800"/>
            <a:ext cx="609840" cy="232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2454120" y="1955880"/>
            <a:ext cx="1219320" cy="1003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96640" y="2021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Stas (visina odgovara uzrastu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okretljivost (držanje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Sposobnost govor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Uzimanje anamne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PROCENA OPŠTEG STAN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INTRAORALNI PREGLED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34800" y="16621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ada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s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Bukalna sluznic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Gingiv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Jezik i podjezični prost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epc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ljuvačk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ub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196640" y="205848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Sistematski pregle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Prvi pregle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Kontrolni pregle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Ciljani pregle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STOMATOLOŠKI PREGLED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34800" y="21193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Dečja stomatologija je grana stomatologije definisana dobno-specifičnim uzrastom pacijenata kojim se bavi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EDMET I DEFINI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87480" y="2109960"/>
            <a:ext cx="66358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f9a12a"/>
                </a:solidFill>
                <a:latin typeface="Trebuchet MS"/>
              </a:rPr>
              <a:t>Osnovni zadaci dečje stomatologije su rana dijagnoza i terapija oboljenja, </a:t>
            </a: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po</a:t>
            </a:r>
            <a:r>
              <a:rPr b="1" lang="en-US" sz="3200" spc="-1" strike="noStrike">
                <a:solidFill>
                  <a:srgbClr val="f9a12a"/>
                </a:solidFill>
                <a:latin typeface="Trebuchet MS"/>
              </a:rPr>
              <a:t>vreda</a:t>
            </a: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9a12a"/>
                </a:solidFill>
                <a:latin typeface="Trebuchet MS"/>
              </a:rPr>
              <a:t>i nepravilnosti usta i zuba u de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ZADAC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892760" y="2109960"/>
            <a:ext cx="633096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Stomatolog koji radi sa decom sa smetnjama u razvoju, i sprovodi terapiju, mora biti za to specijalno edukovan, motivisan i pripremlje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HENDIKEP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96640" y="2021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Rad sa decom zahteva mnogo strpljenja, dosta psihofizičkog napora, kao i veći “gubitak” vremena, koji često izgleda nekoristan, ali je neophodan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RAD SA DECOM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9"/>
          <p:cNvSpPr/>
          <p:nvPr/>
        </p:nvSpPr>
        <p:spPr>
          <a:xfrm>
            <a:off x="280368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eriod novorođenče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eriod odojče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eriod malog dete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eriod predškolskog dete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eriod školskog dete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965160" indent="-371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–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Mlađa školska deca i adolescen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110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PODELA DECE PREMA UZRASTU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16440" y="2576520"/>
            <a:ext cx="58276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“</a:t>
            </a: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Normalno”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“</a:t>
            </a: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Uzdržano”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“</a:t>
            </a: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Pretenciozno”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99cc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99cc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SIHOLOŠKI TIPOVI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4968720" y="5091120"/>
            <a:ext cx="4953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45e44"/>
                </a:solidFill>
                <a:latin typeface="Trebuchet MS"/>
              </a:rPr>
              <a:t>“</a:t>
            </a:r>
            <a:r>
              <a:rPr b="1" lang="sr-Latn-CS" sz="4000" spc="-1" strike="noStrike">
                <a:solidFill>
                  <a:srgbClr val="f45e44"/>
                </a:solidFill>
                <a:latin typeface="Trebuchet MS"/>
              </a:rPr>
              <a:t>Plašljivo”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45e44"/>
                </a:solidFill>
                <a:latin typeface="Trebuchet MS"/>
              </a:rPr>
              <a:t>Jogunasto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968360" y="3110040"/>
            <a:ext cx="49532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45e44"/>
                </a:solidFill>
                <a:latin typeface="Trebuchet MS"/>
              </a:rPr>
              <a:t>“</a:t>
            </a:r>
            <a:r>
              <a:rPr b="1" lang="sr-Latn-CS" sz="4000" spc="-1" strike="noStrike">
                <a:solidFill>
                  <a:srgbClr val="f45e44"/>
                </a:solidFill>
                <a:latin typeface="Trebuchet MS"/>
              </a:rPr>
              <a:t>Plašljivo”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45e44"/>
                </a:solidFill>
                <a:latin typeface="Trebuchet MS"/>
              </a:rPr>
              <a:t>Jogunasto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SIHOLOŠKI TIPOVI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96640" y="205848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Treba da bude jedno prijatno iskustvo za dete, a da stomatolog upozna dete i njegove stomatološke problem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Ukoliko dolazi dete sa bolom, mora mu se ukazati pomoć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28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PRVA POSETA STOMATOLOGU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6:25:08Z</dcterms:modified>
  <cp:revision>472</cp:revision>
  <dc:subject/>
  <dc:title>RTG U DEČJOJ STOMATOLOGIJI</dc:title>
</cp:coreProperties>
</file>